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12E3-3309-4B38-A615-3C17DE4AD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BBCF-2CD2-4FBB-8CA5-9DD280590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51BC-0ACA-459D-B4CB-2393A7FE1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26A7-F5F5-40AC-9AC7-078B11646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74AF-901F-4440-AC55-F49FD4031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57EB-EF80-4A6F-92B1-3F6127A4F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C9F4-C781-4D0E-A9CA-FAE651CA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135B-49D1-47D3-BC88-E1AE5A079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1B9D-2663-4DC1-BF6E-9CA561210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8099-E739-4135-A9A2-09FDADF5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D942-FEBC-44D8-BE1C-EA4823C8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EA21-4237-462C-999F-B6519424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69845-9695-4F66-9EFE-411971EB3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1083960" y="4746600"/>
            <a:ext cx="10208520" cy="1437840"/>
          </a:xfrm>
          <a:prstGeom prst="rect">
            <a:avLst/>
          </a:prstGeom>
          <a:solidFill>
            <a:srgbClr val="050b0b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Т</a:t>
            </a: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и си спасителна канар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сила на моя живот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54600" y="492120"/>
            <a:ext cx="7765560" cy="2361240"/>
          </a:xfrm>
          <a:prstGeom prst="rect">
            <a:avLst/>
          </a:prstGeom>
          <a:solidFill>
            <a:srgbClr val="0000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М</a:t>
            </a: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оя надежда и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вдъхнове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Господи Тебе зова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60436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50920" y="260280"/>
            <a:ext cx="5113080" cy="6585840"/>
          </a:xfrm>
          <a:prstGeom prst="rect">
            <a:avLst/>
          </a:prstGeom>
          <a:solidFill>
            <a:srgbClr val="000000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В</a:t>
            </a: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ярвам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в теб Ису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аз вярвам в теб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В Твойт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вярност и любов</a:t>
            </a:r>
            <a:r>
              <a:rPr b="1" lang="en-US" sz="6000" spc="-1" strike="noStrike">
                <a:solidFill>
                  <a:srgbClr val="ffffff"/>
                </a:solidFill>
                <a:latin typeface="Monotype Corsiva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56680" y="3789360"/>
            <a:ext cx="7983360" cy="2837160"/>
          </a:xfrm>
          <a:prstGeom prst="rect">
            <a:avLst/>
          </a:prstGeom>
          <a:solidFill>
            <a:srgbClr val="000000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Помощ си за ме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във труден ден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Господи,</a:t>
            </a:r>
            <a:r>
              <a:rPr b="1" lang="en-US" sz="6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Тебе зова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-1083960" y="5232240"/>
            <a:ext cx="10208520" cy="1437840"/>
          </a:xfrm>
          <a:prstGeom prst="rect">
            <a:avLst/>
          </a:prstGeom>
          <a:solidFill>
            <a:srgbClr val="050b0b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Т</a:t>
            </a: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и си спасителна канар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сила на моя живот</a:t>
            </a:r>
            <a:r>
              <a:rPr b="1" lang="en-US" sz="6000" spc="-1" strike="noStrike">
                <a:solidFill>
                  <a:srgbClr val="ffffff"/>
                </a:solidFill>
                <a:latin typeface="Monotype Corsiva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61640" y="115920"/>
            <a:ext cx="7983360" cy="2361240"/>
          </a:xfrm>
          <a:prstGeom prst="rect">
            <a:avLst/>
          </a:prstGeom>
          <a:solidFill>
            <a:srgbClr val="0000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М</a:t>
            </a: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оя надежда и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вдъхнове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Господи,</a:t>
            </a:r>
            <a:r>
              <a:rPr b="1" lang="en-US" sz="6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Тебе зова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-775440" y="260280"/>
            <a:ext cx="7137720" cy="4757040"/>
          </a:xfrm>
          <a:prstGeom prst="rect">
            <a:avLst/>
          </a:prstGeom>
          <a:solidFill>
            <a:srgbClr val="000000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В</a:t>
            </a: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ярвам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в теб Ису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аз вярвам в теб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В Твойт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вярност и любов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056680" y="3789360"/>
            <a:ext cx="7983720" cy="2837160"/>
          </a:xfrm>
          <a:prstGeom prst="rect">
            <a:avLst/>
          </a:prstGeom>
          <a:solidFill>
            <a:srgbClr val="000000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Помощ си за ме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във труден ден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Господи, Тебе зова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-1083960" y="5232240"/>
            <a:ext cx="10208520" cy="1437840"/>
          </a:xfrm>
          <a:prstGeom prst="rect">
            <a:avLst/>
          </a:prstGeom>
          <a:solidFill>
            <a:srgbClr val="050b0b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Т</a:t>
            </a: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и си спасителна канар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сила на моя живот</a:t>
            </a:r>
            <a:r>
              <a:rPr b="1" lang="en-US" sz="6000" spc="-1" strike="noStrike">
                <a:solidFill>
                  <a:srgbClr val="ffffff"/>
                </a:solidFill>
                <a:latin typeface="Monotype Corsiva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61280" y="115920"/>
            <a:ext cx="7983720" cy="2361240"/>
          </a:xfrm>
          <a:prstGeom prst="rect">
            <a:avLst/>
          </a:prstGeom>
          <a:solidFill>
            <a:srgbClr val="0000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М</a:t>
            </a: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оя надежда и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вдъхнове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Господи, Тебе зова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06:40:37Z</dcterms:created>
  <dc:creator>TrifonTrifonow</dc:creator>
  <dc:description/>
  <dc:language>en-US</dc:language>
  <cp:lastModifiedBy>TrifonTrifonow</cp:lastModifiedBy>
  <dcterms:modified xsi:type="dcterms:W3CDTF">2005-12-15T06:41:16Z</dcterms:modified>
  <cp:revision>1</cp:revision>
  <dc:subject/>
  <dc:title>Slide 1</dc:title>
</cp:coreProperties>
</file>